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0C4-B2F6-4133-8C93-E545FB69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1C3-2A16-438C-9C91-097DCC9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CCF-7E35-42FC-B849-AFC9175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3BE-583C-4B35-B2DE-34AE8353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E01-BDF0-44C3-83BA-45D7816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41F-88FA-441D-921F-EF3F380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F30-2B8E-42CF-A7D1-F5D6C57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4FD-9584-4735-AC01-E8050B9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30C-2841-4D87-A1E8-A0B2FE1A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78E-21CD-4112-9BCD-445D69F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0C6-BEC4-4451-9DD1-046E7001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DCD-1780-4AD5-8CB4-A0536F2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AEA-D384-4C45-AF5A-FDB79540A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IM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10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47Z</dcterms:modified>
  <cp:revision>100</cp:revision>
  <dc:subject/>
  <dc:title>The Art in the State of the Art</dc:title>
</cp:coreProperties>
</file>